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72B-AD83-43A5-BBE4-505FA75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EE4-B125-4520-8B62-A8B945F0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53D-6752-42FF-9175-C586FE40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1DC-9ECC-46AD-8650-94BA2905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AF0-E192-44FA-AA67-A8A1D726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889-9996-4FF4-838E-D68CA80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955-3148-4995-8A47-FAA027A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11C-FF45-4796-8FB4-9E9C75C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DA5-B62E-4EE9-B87D-4846E35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D36-5DA4-49B1-963D-A82DA92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FD3-C984-4DF8-8767-974816E4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784-FDCD-47AB-90F4-436E290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F3FB-6413-4C98-8222-9AF24C5E1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utor2u.net/blog/index.php/economics/C222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pli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67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ccelerato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or eff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how the level of spending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ital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influenced by how quickly demand is growing in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business or an industry where demand is rising at a strong 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will respond to growing dem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ing produ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king fuller use of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productive 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also choose to meet higher dem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down their stoc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inish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point – and if they feel that the higher level of demand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y may choose to increase spending on new capital goods such as plant and machinery, factories and new technology in order to increas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nvestment goes beyond what is needed simply to replace worn out, fully depreciated machinery, then the capital stock of the business will become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 in C is leading to an increase in I and further increase in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3671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ultipli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 increase or decrease in spending leads to a larger than proportionate change in the national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initial change in AD can have a much greater change in national income (GD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jections of new demand for goods and services into the circular flow of income can stimulate further rounds of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other words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pers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 spending is another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 incom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and this can lead to a bigger eventual effect on output and employ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4643280" y="5373720"/>
            <a:ext cx="3816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lier eff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n increase or decrease in spending leads to a larger than proportionate change in nation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screen-capture-4"/>
          <p:cNvPicPr/>
          <p:nvPr/>
        </p:nvPicPr>
        <p:blipFill>
          <a:blip r:embed="rId1"/>
          <a:stretch/>
        </p:blipFill>
        <p:spPr>
          <a:xfrm>
            <a:off x="3995640" y="1150920"/>
            <a:ext cx="52070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61560"/>
            <a:ext cx="7488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ultiplier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£300 million increase in capital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created when an overseas company decides to build a new production plant in th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y set off a chain reaction of increases in expendi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ho produce the capital goods                                          and construction businesses who win                                   contracts to build the new factory will                                   experience an increase in their                                          incomes and pro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y and their employees in turn,                                      collectively spend about 3/5 of that                                         additional income, then £180m will be                                    added to the incomes of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is point, total income has grown by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£300m + (0.6 x £300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um will continue to increase as                                            the producers of the additional goods                                             and services realize an increase in their incomes, of which they in turn spend 60% on even more goods and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crease in total income will then b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£300m + (0.6 x £300m) + (0.6 x £180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time, the additional rise in spending and income is a fraction of the previous addition to the circular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950000" y="1700280"/>
            <a:ext cx="42512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9280" y="6156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99"/>
                </a:solidFill>
                <a:latin typeface="Arial"/>
              </a:rPr>
              <a:t>The Multiplier and Keynesian Econo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oncept of the multiplier process became important in the 1930s whe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Keyn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ggested it as a tool to help governments to maintain high levels of employ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demand-managem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pproach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as designed to help overcome a shortage of capital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measured the amount of government spending needed to reach a level of national income that would prevent unemploy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higher the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propensity to consum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mestically produced goods and services, the greater is the multiplier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government can influence the size of the multiplier through changes in direct tax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xample, a cut in the rate of income tax will increase the amount of extra income that can be spent on further goods and servi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recession-4a-300x300"/>
          <p:cNvPicPr/>
          <p:nvPr/>
        </p:nvPicPr>
        <p:blipFill>
          <a:blip r:embed="rId1"/>
          <a:stretch/>
        </p:blipFill>
        <p:spPr>
          <a:xfrm>
            <a:off x="6084720" y="1628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7272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people are given extra money do you think they are guaranteed to spend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o, it depends on their propensity to consumer (or their propensity to sa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10 Obama gave Americans a tax holiday but it didn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 help growth much because they just used it to pay debt and to bolster their sav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11 he extended the tax holiday arguing that it would prevent the US economy from going into a rece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 was managing demand; increasing AD by increasing consum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uccess of this policy will depend 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American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 propensity to consu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4698482x"/>
          <p:cNvPicPr/>
          <p:nvPr/>
        </p:nvPicPr>
        <p:blipFill>
          <a:blip r:embed="rId1"/>
          <a:stretch/>
        </p:blipFill>
        <p:spPr>
          <a:xfrm>
            <a:off x="5319720" y="167796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8920" y="6156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Factors affecting the size of the multiplier -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other factor affecting the size of the multiplier effect is the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propensity to purchase imports</a:t>
            </a:r>
            <a:r>
              <a:rPr b="0" lang="en-GB" sz="2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, out of extra income, people spend their money on imports, this demand is not passed on in the form of fresh spending on domestically produced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leaks away from the circular flow of income and spending, reducing the size of the multipli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UK has a large propensity to consume im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ultiplier process also requires that there is </a:t>
            </a:r>
            <a:r>
              <a:rPr b="1" lang="en-GB" sz="2200" spc="-1" strike="noStrike">
                <a:solidFill>
                  <a:srgbClr val="9900ff"/>
                </a:solidFill>
                <a:latin typeface="Arial"/>
              </a:rPr>
              <a:t>sufficient spare capacit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economy for extra output to be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little spare capacity the multiplier will just cause demand pull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ashion-blog460"/>
          <p:cNvPicPr/>
          <p:nvPr/>
        </p:nvPicPr>
        <p:blipFill>
          <a:blip r:embed="rId1"/>
          <a:stretch/>
        </p:blipFill>
        <p:spPr>
          <a:xfrm>
            <a:off x="5362560" y="2104920"/>
            <a:ext cx="3753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0800" y="315720"/>
            <a:ext cx="345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Factors affecting the size of the multiplier -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plier effect will be larger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nsity to spend extra income on domestic goods and services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ginal rate of tax on extra income is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nsity to spend extra income rather than save is 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pend-or-save"/>
          <p:cNvPicPr/>
          <p:nvPr/>
        </p:nvPicPr>
        <p:blipFill>
          <a:blip r:embed="rId1"/>
          <a:stretch/>
        </p:blipFill>
        <p:spPr>
          <a:xfrm>
            <a:off x="3878280" y="1461960"/>
            <a:ext cx="52452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226800"/>
            <a:ext cx="50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ime lags (e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remember that the multiplier effect will take time to come into full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ood example is the fiscal stimulus introduced into the US economy by the Obama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set aside many billions of dollars of extra spending on infrastructure spending but these sorts of capital projects can take months if not years to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s in sourcing raw materials, components and finding sufficient skilled labour can limit the initial impact of the spending pro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upply_Chain_Management_Ch3_Pt3_Time_Lags"/>
          <p:cNvPicPr/>
          <p:nvPr/>
        </p:nvPicPr>
        <p:blipFill>
          <a:blip r:embed="rId1"/>
          <a:stretch/>
        </p:blipFill>
        <p:spPr>
          <a:xfrm>
            <a:off x="5651640" y="148428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226800"/>
            <a:ext cx="50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ccelerator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S you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need to know much about the accelerator effect but this diagram summaris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blog-econ-asworkshop-session1"/>
          <p:cNvPicPr/>
          <p:nvPr/>
        </p:nvPicPr>
        <p:blipFill>
          <a:blip r:embed="rId1"/>
          <a:stretch/>
        </p:blipFill>
        <p:spPr>
          <a:xfrm>
            <a:off x="901800" y="1822320"/>
            <a:ext cx="748656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5435640" y="0"/>
            <a:ext cx="3457440" cy="1739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celerator eff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principle states that a given change in demand for consumer goods will cause a greater percentage change in demand for capital goods (more 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5:32:27Z</dcterms:created>
  <dc:creator>Rom</dc:creator>
  <dc:description/>
  <dc:language>en-US</dc:language>
  <cp:lastModifiedBy>Julia</cp:lastModifiedBy>
  <dcterms:modified xsi:type="dcterms:W3CDTF">2013-10-26T12:34:33Z</dcterms:modified>
  <cp:revision>8</cp:revision>
  <dc:subject/>
  <dc:title>Slide 1</dc:title>
</cp:coreProperties>
</file>